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BF5D-D61C-42B4-BE46-CC238A99D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lasses.midlandstech.edu/carterp/Courses/bio225/chap05/ss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B669-49E8-4FC5-9B7F-31C0D31C3CD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lasses.midlandstech.edu/carterp/Courses/bio225/chap05/ss5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3ADF-A54C-4504-B279-B52A6BA78D5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academic.brooklyn.cuny.edu/biology/bio4fv/page/3d_prot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356A-026E-4ABD-A5D4-B09022CC729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19E4-19AA-456C-8F64-D61D1823398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F0ED-3C88-416E-BDE6-DFAD8FB5B10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uture-of-technology.com/index.php?p=2_7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9488-670E-4E95-B4A1-E14D00CE549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0E8-5236-491F-A365-76B94B42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047-D658-4644-B3F7-14DEFE76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FF9-150B-48DA-BE9E-A3749D66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973-4B42-4C45-A0E2-66087F08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750-D4B8-4E9C-BD1C-EF30269A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BB9-79D3-4D3B-82E6-E2B8E17B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171-D4E3-479D-82A9-B492C996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1BD-0F28-4767-A008-90BAEE0F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1EA-35E4-4680-BA75-F82B18B3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7909-9B69-409E-A917-99743316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882-3B91-49A8-A1A8-2C568EAD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799-3ACA-4793-AED0-A2B0446A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181C-D9F0-4A2B-8179-00C79E431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 to Gluc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54040" y="609480"/>
            <a:ext cx="623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carbohydrates, proteins and lipids can also be metabolized for energy by entering into a part of glycolysis or 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33440" y="1981080"/>
            <a:ext cx="467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digested into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 groups are then removed in a proces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99000" y="1905120"/>
            <a:ext cx="210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hemical reactions will convert the remaining part of the amino acids into intermediates of glycolysis or 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116600"/>
        </p:xfrm>
        <a:graphic>
          <a:graphicData uri="http://schemas.openxmlformats.org/drawingml/2006/table">
            <a:tbl>
              <a:tblPr/>
              <a:tblGrid>
                <a:gridCol w="4749840"/>
                <a:gridCol w="3022560"/>
              </a:tblGrid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ine, cysteine, glycine, serine, threo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uv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cine, lys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yl-C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m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agine, aspar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o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, glutamate, glutamine, histidine, pro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etoglut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fats digested by humans are triglyce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lycerides are first digested i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lyce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2757600"/>
            <a:ext cx="38098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ipid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 is either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H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n G3P), and enters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xygen is present, fatty acids are transported to the matrix of the mitochondria and under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β-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β-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tty acid chain is cleaved into 2-carbon acetyl groups, which are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etyl-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n enter 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ATP are 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ctivate the 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leavage produ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NAD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FADH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1:38Z</dcterms:created>
  <dc:creator>rubina khan</dc:creator>
  <dc:description/>
  <dc:language>en-US</dc:language>
  <cp:lastModifiedBy>rubina khan</cp:lastModifiedBy>
  <dcterms:modified xsi:type="dcterms:W3CDTF">2013-03-26T01:29:04Z</dcterms:modified>
  <cp:revision>79</cp:revision>
  <dc:subject/>
  <dc:title>Anaerobic Pathways</dc:title>
</cp:coreProperties>
</file>